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191-0950-418B-B906-F5AAB39D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20E-1107-406B-B3EF-8A4FD32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D9F-05BB-433A-81B4-025CBE41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2C0-637F-4824-846E-B9DF91EB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2D5-D279-483C-A319-57465CF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B95-EC64-41A0-B429-E4898C2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430-E969-4553-A4DB-B5E22274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57E-06FB-4D9F-8B1E-6888943A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C58-E282-4E3B-9387-FB064D76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F55-0A7F-4610-AD17-E0DACFE7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E13-BD24-435F-BDB3-F4CF620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CB2-7861-4597-89ED-5BEC99E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353D-4622-40BD-874A-27C8766CD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Regional Socie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609480" y="1752480"/>
            <a:ext cx="297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e North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11320" y="22096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 &amp;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07320" y="3241800"/>
            <a:ext cx="672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ch - bankers, manufacturers, merch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or – unskilled laborers, 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 – farmers, lawyers, shopkee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Social Mobili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304920" y="457200"/>
            <a:ext cx="4809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factory system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05360" y="1143000"/>
            <a:ext cx="66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 Cabot L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powered loom (textile m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&amp; machines did everything under one 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ll Girls – single women who lived in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ing, worked long days, paid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80880" y="3809880"/>
            <a:ext cx="412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ther inven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98640" y="4689360"/>
            <a:ext cx="51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eere – steel p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rus McCormick – mechanical r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as Howe – sew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533520" y="4572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Immigr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036160" y="1488960"/>
            <a:ext cx="54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h = largest group (1.6 million by 18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tato famine,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ny settled in cities (slu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enced extrem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71720" y="3276720"/>
            <a:ext cx="62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s = second larg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y went into skilled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so tolerated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ists = favor American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litical party called the American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now-Noth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304920" y="609480"/>
            <a:ext cx="297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e South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962520" y="91440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e Cotton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354320" y="20988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on its way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46880" y="2556000"/>
            <a:ext cx="57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 Whitney – Cotton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ed to keep up with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tton more than ½ all U.S. expo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01320" y="4156200"/>
            <a:ext cx="56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pper South = wheat, tobacco, 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wer South = rice, indigo,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iddle South = Cott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41840" y="5832360"/>
            <a:ext cx="65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 industrialization, but developed more slow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4320" y="457200"/>
            <a:ext cx="806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ch – Slave owning pla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or – poor whites with little or no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 – yeoman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Af. Americans – 260,000 by 1860, skilled labor,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533520" y="3429000"/>
            <a:ext cx="4343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e Slave Syste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1480" y="4876920"/>
            <a:ext cx="66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4 million slaves by 1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eer – look over a group of slaves a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 – slaves chosen to personally work the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346040" y="613728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acial-Chattel System – slaves are property (based on r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457200" y="304920"/>
            <a:ext cx="246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 Lif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652040" y="1184400"/>
            <a:ext cx="67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d from plantation to 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living conditions, little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ishment varied from owner to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 of separation from family, physical pu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380880" y="2895480"/>
            <a:ext cx="3343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 Cultu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606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19800" y="3657600"/>
            <a:ext cx="62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Culture (influence from b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telling, music,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very important in African America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3"/>
          <p:cNvGrpSpPr/>
          <p:nvPr/>
        </p:nvGrpSpPr>
        <p:grpSpPr>
          <a:xfrm>
            <a:off x="1593720" y="2577960"/>
            <a:ext cx="5956200" cy="1676520"/>
            <a:chOff x="1593720" y="2577960"/>
            <a:chExt cx="5956200" cy="1676520"/>
          </a:xfrm>
        </p:grpSpPr>
        <p:sp>
          <p:nvSpPr>
            <p:cNvPr id="68" name="Rectangle 10"/>
            <p:cNvSpPr/>
            <p:nvPr/>
          </p:nvSpPr>
          <p:spPr>
            <a:xfrm>
              <a:off x="1593720" y="2577960"/>
              <a:ext cx="3908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1593720" y="2577960"/>
              <a:ext cx="59562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Picture 12" descr="j1_top"/>
          <p:cNvPicPr/>
          <p:nvPr/>
        </p:nvPicPr>
        <p:blipFill>
          <a:blip r:embed="rId1"/>
          <a:stretch/>
        </p:blipFill>
        <p:spPr>
          <a:xfrm>
            <a:off x="762120" y="4876920"/>
            <a:ext cx="67053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457200" y="457200"/>
            <a:ext cx="311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 Revol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447920" y="1219320"/>
            <a:ext cx="6705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riel Prosser – Richmond, 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mark Vessey – Charleston,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 Turner – Killed 60 whites, eventually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609480" y="3200400"/>
            <a:ext cx="64771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Underground Railroad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000" y="4079880"/>
            <a:ext cx="31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of hiding pl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j2_harriet"/>
          <p:cNvPicPr/>
          <p:nvPr/>
        </p:nvPicPr>
        <p:blipFill>
          <a:blip r:embed="rId1"/>
          <a:stretch/>
        </p:blipFill>
        <p:spPr>
          <a:xfrm>
            <a:off x="6629400" y="3962520"/>
            <a:ext cx="1676520" cy="22096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2"/>
          <p:cNvGrpSpPr/>
          <p:nvPr/>
        </p:nvGrpSpPr>
        <p:grpSpPr>
          <a:xfrm>
            <a:off x="2617920" y="2617920"/>
            <a:ext cx="3908160" cy="1600200"/>
            <a:chOff x="2617920" y="2617920"/>
            <a:chExt cx="3908160" cy="1600200"/>
          </a:xfrm>
        </p:grpSpPr>
        <p:sp>
          <p:nvSpPr>
            <p:cNvPr id="77" name="Rectangle 9"/>
            <p:cNvSpPr/>
            <p:nvPr/>
          </p:nvSpPr>
          <p:spPr>
            <a:xfrm>
              <a:off x="2617920" y="2617920"/>
              <a:ext cx="39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2617920" y="2617920"/>
              <a:ext cx="390816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1" descr="j1_topleft"/>
          <p:cNvPicPr/>
          <p:nvPr/>
        </p:nvPicPr>
        <p:blipFill>
          <a:blip r:embed="rId2"/>
          <a:stretch/>
        </p:blipFill>
        <p:spPr>
          <a:xfrm>
            <a:off x="380880" y="4419720"/>
            <a:ext cx="1822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138320" y="1447920"/>
            <a:ext cx="67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keep the # of slave and free stat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moving into Missouri want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Henry Clay – The Great Comprom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ouri admitted as a sl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e added as a fre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lave/free border = southern border of Misso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762120" y="685800"/>
            <a:ext cx="70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Missouri Compromise (1820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4572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480" y="2590920"/>
            <a:ext cx="800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ess passed a new import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feels threatened (favors Nor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f of Abominatio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John C. Calh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trine of Nullification – States may nullify, or ign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ct of Congress considered to be unconstitu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houn resigns as V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C. refuses to pay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 threatens wit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 is made…but differences still exist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902960" y="1143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sue of states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2"/>
          <p:cNvSpPr txBox="1"/>
          <p:nvPr/>
        </p:nvSpPr>
        <p:spPr>
          <a:xfrm>
            <a:off x="1066680" y="380880"/>
            <a:ext cx="570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Nullification Crisi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45:42Z</dcterms:created>
  <dc:creator>nalbert</dc:creator>
  <dc:description/>
  <dc:language>en-US</dc:language>
  <cp:lastModifiedBy>nate</cp:lastModifiedBy>
  <dcterms:modified xsi:type="dcterms:W3CDTF">2013-11-13T15:23:30Z</dcterms:modified>
  <cp:revision>14</cp:revision>
  <dc:subject/>
  <dc:title>PowerPoint Presentation</dc:title>
</cp:coreProperties>
</file>